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DBE-DC59-40C6-8457-6CBE96D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E2A-3EED-42B4-8089-A68EBA35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B84-ECE2-4BD1-B437-76EAC1D1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DB8-2A75-4713-BC52-C1ED4373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E81-7DDF-45F0-92F0-E38BCCD3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95B-6999-49C6-B37D-4385BF2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841-FB46-4187-84E0-23F39C3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7F9-9002-4868-8859-B19A8D2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AAA-1EB3-40C8-92F8-DCAA762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527-2DB8-46A2-B433-6254FDA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53C-CA11-494D-A195-8D2F63C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813-C60D-440A-9C64-B733C8D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F44-1C00-4E71-8C71-DEB9780E813E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uesday, February 07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support project organization 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Workareas/packag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988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56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3340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6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08600" y="2333520"/>
            <a:ext cx="422244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2352600"/>
            <a:ext cx="422244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412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040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573200"/>
            <a:ext cx="87854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826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(B1)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5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9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7T17:05:42Z</dcterms:modified>
  <cp:revision>27</cp:revision>
  <dc:subject/>
  <dc:title>Jerry - DL</dc:title>
</cp:coreProperties>
</file>